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arrow.wav" ContentType="audio/x-wav"/>
  <Override PartName="/ppt/media/bomb.wav" ContentType="audio/x-wav"/>
  <Override PartName="/ppt/media/image20.png" ContentType="image/png"/>
  <Override PartName="/ppt/media/image2.png" ContentType="image/png"/>
  <Override PartName="/ppt/media/suction.wav" ContentType="audio/x-wav"/>
  <Override PartName="/ppt/media/image25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7.png" ContentType="image/png"/>
  <Override PartName="/ppt/media/click.wav" ContentType="audio/x-wav"/>
  <Override PartName="/ppt/media/image24.png" ContentType="image/png"/>
  <Override PartName="/ppt/media/image8.png" ContentType="image/png"/>
  <Override PartName="/ppt/media/image26.png" ContentType="image/png"/>
  <Override PartName="/ppt/media/image3.png" ContentType="image/png"/>
  <Override PartName="/ppt/media/image28.png" ContentType="image/png"/>
  <Override PartName="/ppt/media/image5.png" ContentType="image/png"/>
  <Override PartName="/ppt/media/image29.png" ContentType="image/png"/>
  <Override PartName="/ppt/media/image6.png" ContentType="image/png"/>
  <Override PartName="/ppt/media/image17.png" ContentType="image/png"/>
  <Override PartName="/ppt/media/image18.png" ContentType="image/png"/>
  <Override PartName="/ppt/media/type.wav" ContentType="audio/x-wav"/>
  <Override PartName="/ppt/media/camera.wav" ContentType="audio/x-wav"/>
  <Override PartName="/ppt/media/image22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11.png" ContentType="image/png"/>
  <Override PartName="/ppt/media/image12.png" ContentType="image/png"/>
  <Override PartName="/ppt/media/image13.png" ContentType="image/png"/>
  <Override PartName="/ppt/media/image14.png" ContentType="image/png"/>
  <Override PartName="/ppt/media/image30.png" ContentType="image/png"/>
  <Override PartName="/ppt/media/voltag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E4A0-3BA1-47D2-A06E-E9FB4011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20D4-1C84-4426-A5D7-58C42848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09DC-6478-455D-A86C-4A3EC4728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639A-18F4-4A9E-8739-2F3578246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F859-4B7F-41D2-940F-9298EEEA2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6580-97B9-46C7-B7A9-6D997A22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AEF4-C799-43D7-A225-86491D30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64B1-2772-423D-9C5D-637AF28A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4646-ED91-41FD-8442-4D4BD3CF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0D5A-7CCA-4392-9A11-36EBC8A4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45C2-04A2-4F6E-978A-D045E289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5300-744D-44AC-90BB-48F4E5B1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FCBB-B73C-48FF-B27F-9450037D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9A4D-537F-4C53-AC43-727C5CF7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4D2D-4290-4BE9-9115-44D404E3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FA47-136E-4300-B047-562DEF412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8611-AF6F-448A-9BA1-11532DE8C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1521-058B-4023-9855-59E863C3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2368-65B5-499B-BE66-C75197A0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8486-E41C-4BCF-AAFC-F41C3F15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8CB0-A870-4CD5-BF22-754BAC6B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2EBC-6A27-4BB8-AEAF-5DAF8490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68DB-6E99-428D-865B-3A0534AC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9B24-68B1-47AA-B601-9B2B930F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11F4-FE27-4870-ACA4-3A818183F6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2C62-8211-40D9-8B04-7EB8CF9806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audio" Target="../media/camera.wav"/><Relationship Id="rId7" Type="http://schemas.openxmlformats.org/officeDocument/2006/relationships/audio" Target="../media/suction.wav"/><Relationship Id="rId8" Type="http://schemas.openxmlformats.org/officeDocument/2006/relationships/audio" Target="../media/bomb.wav"/><Relationship Id="rId9" Type="http://schemas.openxmlformats.org/officeDocument/2006/relationships/audio" Target="../media/bomb.wav"/><Relationship Id="rId10" Type="http://schemas.openxmlformats.org/officeDocument/2006/relationships/audio" Target="../media/suction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camera.wav"/><Relationship Id="rId5" Type="http://schemas.openxmlformats.org/officeDocument/2006/relationships/audio" Target="../media/bomb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suction.wav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audio" Target="../media/camera.wav"/><Relationship Id="rId8" Type="http://schemas.openxmlformats.org/officeDocument/2006/relationships/audio" Target="../media/bomb.wav"/><Relationship Id="rId9" Type="http://schemas.openxmlformats.org/officeDocument/2006/relationships/audio" Target="../media/click.wav"/><Relationship Id="rId10" Type="http://schemas.openxmlformats.org/officeDocument/2006/relationships/audio" Target="../media/type.wav"/><Relationship Id="rId11" Type="http://schemas.openxmlformats.org/officeDocument/2006/relationships/audio" Target="../media/click.wav"/><Relationship Id="rId12" Type="http://schemas.openxmlformats.org/officeDocument/2006/relationships/audio" Target="../media/type.wav"/><Relationship Id="rId13" Type="http://schemas.openxmlformats.org/officeDocument/2006/relationships/audio" Target="../media/click.wav"/><Relationship Id="rId14" Type="http://schemas.openxmlformats.org/officeDocument/2006/relationships/audio" Target="../media/type.wav"/><Relationship Id="rId15" Type="http://schemas.openxmlformats.org/officeDocument/2006/relationships/audio" Target="../media/click.wav"/><Relationship Id="rId16" Type="http://schemas.openxmlformats.org/officeDocument/2006/relationships/audio" Target="../media/type.wav"/><Relationship Id="rId17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audio" Target="../media/camera.wav"/><Relationship Id="rId6" Type="http://schemas.openxmlformats.org/officeDocument/2006/relationships/audio" Target="../media/bomb.wav"/><Relationship Id="rId7" Type="http://schemas.openxmlformats.org/officeDocument/2006/relationships/audio" Target="../media/bomb.wav"/><Relationship Id="rId8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audio" Target="../media/camera.wav"/><Relationship Id="rId6" Type="http://schemas.openxmlformats.org/officeDocument/2006/relationships/audio" Target="../media/voltage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camera.wav"/><Relationship Id="rId6" Type="http://schemas.openxmlformats.org/officeDocument/2006/relationships/audio" Target="../media/voltage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audio" Target="../media/camera.wav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Newton’s First Law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24000" y="3886200"/>
            <a:ext cx="849600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object at rest will stay at rest, and an object in motion wil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y in motion in a constant speed and direction, unl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ed upon by an outside for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623736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kaisha St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Akaisha Station – Guest Quarter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841480" y="1676520"/>
            <a:ext cx="346104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Guest Are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727360" y="1676520"/>
            <a:ext cx="368784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Gravitic Pa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700360" y="1773360"/>
            <a:ext cx="4194000" cy="4219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700360" y="3860640"/>
            <a:ext cx="4194000" cy="19479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9325080" y="2133720"/>
            <a:ext cx="2952720" cy="1936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9252000" y="3357720"/>
            <a:ext cx="2952720" cy="981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6" name="camera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animMotion origin="layout" path="M 0 -9.25283E-007 L -0.56319 0.00578 E">
                                      <p:cBhvr>
                                        <p:cTn id="219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uction.wav"/>
                                        </p:tgtEl>
                                      </p:cMediaNode>
                                    </p:audio>
                                    <p:animMotion origin="layout" path="M -3.88889E-006 -1.72103E-006 L -0.53941 0.00185 E">
                                      <p:cBhvr>
                                        <p:cTn id="243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Dock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042920" y="1676520"/>
            <a:ext cx="705636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87280" y="1773360"/>
            <a:ext cx="1152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Magellan 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189080" y="1676520"/>
            <a:ext cx="676440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Magellan 2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052640" y="1676520"/>
            <a:ext cx="703728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Magellan 3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720800" y="1676520"/>
            <a:ext cx="570060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771640" y="6165720"/>
            <a:ext cx="1513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-108000" y="1268280"/>
            <a:ext cx="5040360" cy="5329440"/>
            <a:chOff x="-108000" y="1268280"/>
            <a:chExt cx="5040360" cy="5329440"/>
          </a:xfrm>
        </p:grpSpPr>
        <p:sp>
          <p:nvSpPr>
            <p:cNvPr id="87" name=""/>
            <p:cNvSpPr/>
            <p:nvPr/>
          </p:nvSpPr>
          <p:spPr>
            <a:xfrm>
              <a:off x="179280" y="1700280"/>
              <a:ext cx="4392720" cy="4392720"/>
            </a:xfrm>
            <a:prstGeom prst="ellipse">
              <a:avLst/>
            </a:prstGeom>
            <a:noFill/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71640" y="2492280"/>
              <a:ext cx="2881080" cy="2881440"/>
            </a:xfrm>
            <a:prstGeom prst="ellipse">
              <a:avLst/>
            </a:prstGeom>
            <a:noFill/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411280" y="5661000"/>
              <a:ext cx="0" cy="93672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411280" y="1268280"/>
              <a:ext cx="0" cy="165600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4211640" y="3860640"/>
              <a:ext cx="720720" cy="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-108000" y="3860640"/>
              <a:ext cx="720720" cy="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2050920" y="3860640"/>
              <a:ext cx="720720" cy="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2411280" y="3500280"/>
              <a:ext cx="0" cy="72072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3154680" cy="44226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2987640" y="4076640"/>
            <a:ext cx="2233800" cy="441360"/>
            <a:chOff x="2987640" y="4076640"/>
            <a:chExt cx="2233800" cy="441360"/>
          </a:xfrm>
        </p:grpSpPr>
        <p:sp>
          <p:nvSpPr>
            <p:cNvPr id="98" name=""/>
            <p:cNvSpPr/>
            <p:nvPr/>
          </p:nvSpPr>
          <p:spPr>
            <a:xfrm>
              <a:off x="3492360" y="4149720"/>
              <a:ext cx="17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uest modu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2987640" y="4076640"/>
              <a:ext cx="50472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771640" y="2276640"/>
            <a:ext cx="2160720" cy="368280"/>
            <a:chOff x="2771640" y="2276640"/>
            <a:chExt cx="2160720" cy="368280"/>
          </a:xfrm>
        </p:grpSpPr>
        <p:sp>
          <p:nvSpPr>
            <p:cNvPr id="101" name=""/>
            <p:cNvSpPr/>
            <p:nvPr/>
          </p:nvSpPr>
          <p:spPr>
            <a:xfrm>
              <a:off x="3276720" y="227664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ff modu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2771640" y="2492280"/>
              <a:ext cx="503280" cy="73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771280" y="1773360"/>
            <a:ext cx="2305440" cy="431640"/>
            <a:chOff x="2771280" y="1773360"/>
            <a:chExt cx="2305440" cy="431640"/>
          </a:xfrm>
        </p:grpSpPr>
        <p:sp>
          <p:nvSpPr>
            <p:cNvPr id="104" name=""/>
            <p:cNvSpPr/>
            <p:nvPr/>
          </p:nvSpPr>
          <p:spPr>
            <a:xfrm>
              <a:off x="3132000" y="177336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rol modu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771280" y="1989000"/>
              <a:ext cx="36036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555640" y="1341360"/>
            <a:ext cx="1511640" cy="432000"/>
            <a:chOff x="2555640" y="1341360"/>
            <a:chExt cx="1511640" cy="432000"/>
          </a:xfrm>
        </p:grpSpPr>
        <p:sp>
          <p:nvSpPr>
            <p:cNvPr id="107" name=""/>
            <p:cNvSpPr/>
            <p:nvPr/>
          </p:nvSpPr>
          <p:spPr>
            <a:xfrm>
              <a:off x="2700360" y="1341360"/>
              <a:ext cx="13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BD Arra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555640" y="1557360"/>
              <a:ext cx="14292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116000" y="1773360"/>
            <a:ext cx="1224000" cy="851400"/>
            <a:chOff x="1116000" y="1773360"/>
            <a:chExt cx="1224000" cy="851400"/>
          </a:xfrm>
        </p:grpSpPr>
        <p:sp>
          <p:nvSpPr>
            <p:cNvPr id="110" name=""/>
            <p:cNvSpPr/>
            <p:nvPr/>
          </p:nvSpPr>
          <p:spPr>
            <a:xfrm>
              <a:off x="1116000" y="1773360"/>
              <a:ext cx="93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nsor wel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31760" y="2412720"/>
              <a:ext cx="408240" cy="212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492360" y="2708280"/>
            <a:ext cx="1584000" cy="580680"/>
            <a:chOff x="3492360" y="2708280"/>
            <a:chExt cx="1584000" cy="580680"/>
          </a:xfrm>
        </p:grpSpPr>
        <p:grpSp>
          <p:nvGrpSpPr>
            <p:cNvPr id="113" name=""/>
            <p:cNvGrpSpPr/>
            <p:nvPr/>
          </p:nvGrpSpPr>
          <p:grpSpPr>
            <a:xfrm>
              <a:off x="3492360" y="2708280"/>
              <a:ext cx="1584000" cy="580680"/>
              <a:chOff x="3492360" y="2708280"/>
              <a:chExt cx="1584000" cy="580680"/>
            </a:xfrm>
          </p:grpSpPr>
          <p:sp>
            <p:nvSpPr>
              <p:cNvPr id="114" name=""/>
              <p:cNvSpPr/>
              <p:nvPr/>
            </p:nvSpPr>
            <p:spPr>
              <a:xfrm>
                <a:off x="3889080" y="2708280"/>
                <a:ext cx="11872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Drydock modul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3492360" y="3079800"/>
                <a:ext cx="396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 flipH="1">
              <a:off x="3492360" y="3080160"/>
              <a:ext cx="444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435640" y="1268280"/>
            <a:ext cx="3708360" cy="5331240"/>
          </a:xfrm>
          <a:prstGeom prst="rect">
            <a:avLst/>
          </a:prstGeom>
          <a:solidFill>
            <a:srgbClr val="ffffff"/>
          </a:solidFill>
          <a:ln w="15840">
            <a:solidFill>
              <a:srgbClr val="b7e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Tonnage : 50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Main computer : Mk 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Armour type : 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EW rating :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Shield rating : 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TBD range : 30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Weaponry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Laser cannons: 6, Mk 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Ion cannons: 2, Mk 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Plasma gun: 1, Mk 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Matter/Antimatter torpedoe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3 tubes, 10 each, Mk 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Reactor : Matter/Antimat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Auxiliary : Fu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Max sublight Accel : 5 km/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Total crew : 39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Guest capacity : 4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Docking berths 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Pressurised/Internal :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Gravitic pads :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External access tubes : 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916360" y="6308640"/>
            <a:ext cx="1218960" cy="21924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3924000" y="3284640"/>
            <a:ext cx="1440000" cy="824040"/>
            <a:chOff x="3924000" y="3284640"/>
            <a:chExt cx="1440000" cy="824040"/>
          </a:xfrm>
        </p:grpSpPr>
        <p:sp>
          <p:nvSpPr>
            <p:cNvPr id="120" name=""/>
            <p:cNvSpPr/>
            <p:nvPr/>
          </p:nvSpPr>
          <p:spPr>
            <a:xfrm>
              <a:off x="4229280" y="3284640"/>
              <a:ext cx="1134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ravitic landing pa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924000" y="3860640"/>
              <a:ext cx="304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84360" y="4292640"/>
            <a:ext cx="1296720" cy="946440"/>
            <a:chOff x="684360" y="4292640"/>
            <a:chExt cx="1296720" cy="946440"/>
          </a:xfrm>
        </p:grpSpPr>
        <p:sp>
          <p:nvSpPr>
            <p:cNvPr id="123" name=""/>
            <p:cNvSpPr/>
            <p:nvPr/>
          </p:nvSpPr>
          <p:spPr>
            <a:xfrm>
              <a:off x="684360" y="4292640"/>
              <a:ext cx="12967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ydroponics/ Deuterium/ Fluids storag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97600" y="4627800"/>
              <a:ext cx="307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  <p:sndAc>
      <p:stSnd>
        <p:snd r:embed="rId4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Se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3144960" cy="4410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403280" y="1413000"/>
            <a:ext cx="2044800" cy="2000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1332000" y="1773360"/>
            <a:ext cx="2340000" cy="2098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1692360" y="2852640"/>
            <a:ext cx="1382760" cy="1243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2050920" y="3789360"/>
            <a:ext cx="803520" cy="77004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6300720" y="1916280"/>
            <a:ext cx="2304720" cy="337320"/>
            <a:chOff x="6300720" y="1916280"/>
            <a:chExt cx="2304720" cy="337320"/>
          </a:xfrm>
        </p:grpSpPr>
        <p:sp>
          <p:nvSpPr>
            <p:cNvPr id="132" name=""/>
            <p:cNvSpPr/>
            <p:nvPr/>
          </p:nvSpPr>
          <p:spPr>
            <a:xfrm>
              <a:off x="6876720" y="1916280"/>
              <a:ext cx="172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rydock modu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6300720" y="2133360"/>
              <a:ext cx="576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462560" y="3284640"/>
            <a:ext cx="2701800" cy="337320"/>
            <a:chOff x="4462560" y="3284640"/>
            <a:chExt cx="2701800" cy="337320"/>
          </a:xfrm>
        </p:grpSpPr>
        <p:sp>
          <p:nvSpPr>
            <p:cNvPr id="135" name=""/>
            <p:cNvSpPr/>
            <p:nvPr/>
          </p:nvSpPr>
          <p:spPr>
            <a:xfrm>
              <a:off x="4462560" y="3284640"/>
              <a:ext cx="22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ravitic landing pa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551640" y="3429000"/>
              <a:ext cx="612720" cy="71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372000" y="5589360"/>
            <a:ext cx="2233440" cy="441360"/>
            <a:chOff x="6372000" y="5589360"/>
            <a:chExt cx="2233440" cy="441360"/>
          </a:xfrm>
        </p:grpSpPr>
        <p:sp>
          <p:nvSpPr>
            <p:cNvPr id="138" name=""/>
            <p:cNvSpPr/>
            <p:nvPr/>
          </p:nvSpPr>
          <p:spPr>
            <a:xfrm>
              <a:off x="6876720" y="566244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uest modu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6372000" y="5589360"/>
              <a:ext cx="504360" cy="21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556000" y="5950080"/>
            <a:ext cx="2124000" cy="733320"/>
            <a:chOff x="2556000" y="5950080"/>
            <a:chExt cx="2124000" cy="733320"/>
          </a:xfrm>
        </p:grpSpPr>
        <p:sp>
          <p:nvSpPr>
            <p:cNvPr id="141" name=""/>
            <p:cNvSpPr/>
            <p:nvPr/>
          </p:nvSpPr>
          <p:spPr>
            <a:xfrm>
              <a:off x="2556000" y="5950080"/>
              <a:ext cx="2124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ydroponics/ Deuterium/ Fluids storag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88000" y="6165720"/>
              <a:ext cx="503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  <p:sndAc>
      <p:stSnd>
        <p:snd r:embed="rId7" name="camera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32015E-006 L 0.30555 -0.00926 E">
                                      <p:cBhvr>
                                        <p:cTn id="66" dur="5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54291E-006 L 0.55712 0.07795 E">
                                      <p:cBhvr>
                                        <p:cTn id="80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500"/>
                            </p:stCondLst>
                            <p:childTnLst>
                              <p:par>
                                <p:cTn id="8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31321E-009 L 0.41267 0.21397 E">
                                      <p:cBhvr>
                                        <p:cTn id="94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81481E-006 L 0.24757 0.2169 E">
                                      <p:cBhvr>
                                        <p:cTn id="108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Corrido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2565360"/>
            <a:ext cx="2465280" cy="2886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rcRect l="0" t="0" r="0" b="1596"/>
          <a:stretch/>
        </p:blipFill>
        <p:spPr>
          <a:xfrm>
            <a:off x="1619280" y="1212840"/>
            <a:ext cx="6557760" cy="4808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2484360" y="1676520"/>
            <a:ext cx="5896080" cy="3849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788000" y="5877000"/>
            <a:ext cx="32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ypical Corridor s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5" name="camera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87393E-006 L 0.36528 -0.00047 E">
                                      <p:cBhvr>
                                        <p:cTn id="121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528 -0.00047 L 0.00295 -0.00047 E">
                                      <p:cBhvr>
                                        <p:cTn id="130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Staff sec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858960" y="1676520"/>
            <a:ext cx="742464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Staff 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84360" y="2276640"/>
            <a:ext cx="8154720" cy="3085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55640" y="3789360"/>
            <a:ext cx="4194360" cy="1701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755640" y="2060640"/>
            <a:ext cx="4194360" cy="17319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5" name="camera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56" dur="500" fill="hold"/>
                                        <p:tgtEl>
                                          <p:spTgt spid="15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58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31182E-006 L 0.4243 -0.02105 E">
                                      <p:cBhvr>
                                        <p:cTn id="167" dur="5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8.21189E-007 L 0.43212 0.03331 E">
                                      <p:cBhvr>
                                        <p:cTn id="169" dur="5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Staff 2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8447040" cy="31971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826920" y="2133720"/>
            <a:ext cx="4194360" cy="1731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826920" y="3860640"/>
            <a:ext cx="4194360" cy="17020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5" name="camera.wav"/>
      </p:stSnd>
    </p:sndAc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80" dur="500" fill="hold"/>
                                        <p:tgtEl>
                                          <p:spTgt spid="15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82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92945E-006 L 0.44792 -0.02129 E">
                                      <p:cBhvr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59079E-007 L 0.44011 0.03354 E">
                                      <p:cBhvr>
                                        <p:cTn id="193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Storag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835280" y="1914480"/>
            <a:ext cx="4743360" cy="49435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627280" y="0"/>
            <a:ext cx="3371760" cy="55436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amera.wav"/>
      </p:stSnd>
    </p:sndAc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38889E-006 3.80985E-006 L 0.00469 0.15868 E">
                                      <p:cBhvr>
                                        <p:cTn id="213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VI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906480" y="1676520"/>
            <a:ext cx="733104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1T04:57:53Z</dcterms:created>
  <dc:creator>Curufea Cubelegand</dc:creator>
  <dc:description/>
  <dc:language>en-US</dc:language>
  <cp:lastModifiedBy>Curufea Cubelegand</cp:lastModifiedBy>
  <dcterms:modified xsi:type="dcterms:W3CDTF">2003-11-01T21:03:11Z</dcterms:modified>
  <cp:revision>25</cp:revision>
  <dc:subject/>
  <dc:title>Newton’s First Law</dc:title>
</cp:coreProperties>
</file>